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gif" ContentType="image/gif"/>
  <Override PartName="/ppt/media/image12.pct" ContentType="image/x-pict"/>
  <Override PartName="/ppt/media/projctor.wav" ContentType="audio/x-wav"/>
  <Override PartName="/ppt/media/image11.pct" ContentType="image/x-pict"/>
  <Override PartName="/ppt/media/image7.jpeg" ContentType="image/jpeg"/>
  <Override PartName="/ppt/media/image8.gif" ContentType="image/gif"/>
  <Override PartName="/ppt/media/image9.gif" ContentType="image/gif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3AC-D962-48FB-9083-EAB1D0BB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446-E6DE-4BB4-A365-C8F4B883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656-AF7C-4D99-9778-8AA9B9D4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656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120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192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656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120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AE9-C1AD-4152-8FA4-BDEF8359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43F4-9927-48C5-9660-1DE1789F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50CD-D4C8-47FE-9E02-925FDC3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381C-5662-4910-B153-29B3FB4B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174-B536-40FF-B666-E3C2E020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6694-CFCB-492F-96FE-924F17BF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E2BB-22AF-428D-ACE6-D1201005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6AFE-2F86-4E83-9F0D-8467C00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C53-A3E7-4E01-B9B4-788783A4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6F31-B272-4C73-A008-7BA033A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4C17-0EE8-40C1-B603-B18D55EC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D749-4212-4F0E-99B0-B0B038D3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D0C1-0BB0-4A76-9B12-E5E7DDDF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656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1200" y="91440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192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656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1200" y="2586240"/>
            <a:ext cx="287064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58F-65DA-4C73-88F4-8CE52A93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FAC-63AE-4DCC-BB28-689CCB84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77B-2B06-4875-829A-3D9D871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3A8-A6AE-4704-85CC-3102BE81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58C-0211-4EF3-8797-80CAEE5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770-9360-4327-8310-E90DEEC6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0320" y="258624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9FA-A2DF-4048-9953-8872FCE7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0320" y="914400"/>
            <a:ext cx="43506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2586240"/>
            <a:ext cx="891540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F79-4739-4EB9-A819-29A6094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237b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Kabob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2" marL="10058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3" marL="1407960" indent="-200880">
              <a:spcBef>
                <a:spcPts val="700"/>
              </a:spcBef>
              <a:buClr>
                <a:srgbClr val="000000"/>
              </a:buClr>
              <a:buFont typeface="Kabob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4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5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  <a:p>
            <a:pPr lvl="6" marL="1810440" indent="-200880">
              <a:spcBef>
                <a:spcPts val="700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788-2892-4CD0-A329-9084AA9ED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28440">
            <a:solidFill>
              <a:srgbClr val="2e93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81680" y="4038480"/>
            <a:ext cx="2216160" cy="221796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237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1600200"/>
            <a:ext cx="556236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8BD-FC6A-4DE1-8BE5-CDC01C296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Kabob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abobBlac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KabobBlack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Kabob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Kabob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abobBlack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Kabob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ct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ct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85800" y="1371600"/>
            <a:ext cx="7778880" cy="2370240"/>
            <a:chOff x="685800" y="1371600"/>
            <a:chExt cx="7778880" cy="2370240"/>
          </a:xfrm>
        </p:grpSpPr>
        <p:sp>
          <p:nvSpPr>
            <p:cNvPr id="86" name=""/>
            <p:cNvSpPr/>
            <p:nvPr/>
          </p:nvSpPr>
          <p:spPr>
            <a:xfrm>
              <a:off x="2316240" y="1450800"/>
              <a:ext cx="5946840" cy="312840"/>
            </a:xfrm>
            <a:prstGeom prst="rect">
              <a:avLst/>
            </a:prstGeom>
            <a:solidFill>
              <a:srgbClr val="2e93b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1616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416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3216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4016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46720" y="1371600"/>
              <a:ext cx="80640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56520" y="1371600"/>
              <a:ext cx="804960" cy="523800"/>
            </a:xfrm>
            <a:prstGeom prst="roundRect">
              <a:avLst>
                <a:gd name="adj" fmla="val 16667"/>
              </a:avLst>
            </a:prstGeom>
            <a:solidFill>
              <a:srgbClr val="74daf2"/>
            </a:solidFill>
            <a:ln w="936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11360" y="2682720"/>
              <a:ext cx="6248520" cy="1049400"/>
            </a:xfrm>
            <a:prstGeom prst="roundRect">
              <a:avLst>
                <a:gd name="adj" fmla="val 50000"/>
              </a:avLst>
            </a:prstGeom>
            <a:solidFill>
              <a:srgbClr val="74daf2"/>
            </a:solidFill>
            <a:ln w="2844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11280" y="1633680"/>
              <a:ext cx="6953400" cy="1441440"/>
            </a:xfrm>
            <a:prstGeom prst="parallelogram">
              <a:avLst>
                <a:gd name="adj" fmla="val 19363"/>
              </a:avLst>
            </a:prstGeom>
            <a:solidFill>
              <a:srgbClr val="2e93b2"/>
            </a:solidFill>
            <a:ln w="76320">
              <a:solidFill>
                <a:srgbClr val="237b9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523880"/>
              <a:ext cx="2216160" cy="2217960"/>
            </a:xfrm>
            <a:prstGeom prst="ellipse">
              <a:avLst/>
            </a:prstGeom>
            <a:solidFill>
              <a:srgbClr val="ffffff"/>
            </a:solidFill>
            <a:ln w="127080">
              <a:solidFill>
                <a:srgbClr val="237b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1600200"/>
            <a:ext cx="556236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F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43200" y="3176280"/>
            <a:ext cx="483696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KabobBlack"/>
              </a:rPr>
              <a:t>Subtraction</a:t>
            </a:r>
            <a:endParaRPr b="0" lang="en-US" sz="24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60480" y="2038320"/>
            <a:ext cx="1684440" cy="116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1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3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162920" y="435132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another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1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7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353360" y="4305240"/>
            <a:ext cx="1068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Two more examples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648320"/>
            <a:ext cx="35053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helps to remember how things work with whole numbers while learning fra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like 30 – 7   and 83 -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r. Tur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76440" y="1695600"/>
          <a:ext cx="128880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695600"/>
                    <a:ext cx="128880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257800" y="1333440"/>
          <a:ext cx="1428840" cy="20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333440"/>
                    <a:ext cx="14288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impl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Subtraction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35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Not too much different from addition.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648320"/>
            <a:ext cx="3505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) Get a common Denom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)  Sub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054320" y="1371600"/>
                <a:ext cx="146052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¾ -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353360" y="4305240"/>
            <a:ext cx="1068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Try one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3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1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62920" y="4411800"/>
            <a:ext cx="152388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991720" y="6553080"/>
            <a:ext cx="152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077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KabobBlack"/>
              </a:rPr>
              <a:t>With borrowing</a:t>
            </a:r>
            <a:endParaRPr b="0" lang="en-US" sz="2800" spc="-1" strike="noStrike">
              <a:solidFill>
                <a:srgbClr val="006699"/>
              </a:solidFill>
              <a:latin typeface="Kabob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743200" cy="1895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388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ry 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64832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different about this proble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Try 4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 – 2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abobBlac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KabobBlack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KabobBlack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64832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have to bor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714840" y="1019160"/>
                <a:ext cx="1873080" cy="31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ras Bold ITC"/>
              </a:rPr>
              <a:t>Subtraction</a:t>
            </a:r>
            <a:endParaRPr b="0" lang="en-US" sz="4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4381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bob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obBlack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KabobBlack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4648320"/>
            <a:ext cx="3505320" cy="1447560"/>
          </a:xfrm>
          <a:prstGeom prst="wedgeRectCallout">
            <a:avLst>
              <a:gd name="adj1" fmla="val 83560"/>
              <a:gd name="adj2" fmla="val -40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648320"/>
            <a:ext cx="35053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L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rrow only when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09480" y="1295280"/>
                <a:ext cx="1422360" cy="293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37" name=""/>
          <p:cNvGraphicFramePr/>
          <p:nvPr/>
        </p:nvGraphicFramePr>
        <p:xfrm>
          <a:off x="5257800" y="762120"/>
          <a:ext cx="1428840" cy="31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762120"/>
                    <a:ext cx="142884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0:01:32Z</dcterms:created>
  <dc:creator>eclipse</dc:creator>
  <dc:description/>
  <dc:language>en-US</dc:language>
  <cp:lastModifiedBy>Parkland High School</cp:lastModifiedBy>
  <dcterms:modified xsi:type="dcterms:W3CDTF">2010-11-09T15:35:11Z</dcterms:modified>
  <cp:revision>22</cp:revision>
  <dc:subject/>
  <dc:title>Electric Sparkling Riptide</dc:title>
</cp:coreProperties>
</file>